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656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D0D7-66BC-4D2D-8ADD-E7BDE8B4D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B1C1-6EE7-47D8-B2F8-32BDE9F34D8D}" type="slidenum">
              <a:rPr b="0" lang="et-E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t-L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7410-D7E1-4850-A65F-AEA2786EC0C7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1280" y="4422240"/>
            <a:ext cx="56199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kaidrės numerio vietos rezervavimo ženklas 3"/>
          <p:cNvSpPr/>
          <p:nvPr/>
        </p:nvSpPr>
        <p:spPr>
          <a:xfrm>
            <a:off x="3976560" y="8842320"/>
            <a:ext cx="30448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0A38-C43E-4D7F-879A-7C79C9AF62A4}" type="slidenum">
              <a:rPr b="0" lang="lt-L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55A8-B11C-4D1E-AFB5-29E649851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8490-87BE-4A3E-93BB-9DF96373D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0690-4AE4-4C31-BF95-DA25113BA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FD7-3BF5-4002-ADA7-622FBDC06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19BB-8BBD-4464-93B3-C669C8DC2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7C2-F1D3-4112-B163-52D22A56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CA8-5CB3-41EA-BCEF-2A49DAE4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3FD6-F92F-4270-8E6E-97386287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AD6B-D5D0-496D-91B0-A1447A0F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A9B5-C37D-437E-AAF7-DA859AB9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756E-1C5F-41D4-B292-3FECEEFF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BAF6-EDAA-4489-8EE9-709A12D2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E1B0-5914-42A0-956D-BFAC6D36A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76200" y="2908080"/>
            <a:ext cx="8602200" cy="103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VVG bendradarbiavimo projektų įgyvendinim</a:t>
            </a:r>
            <a:r>
              <a:rPr b="1" i="1" lang="en-US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o situacija</a:t>
            </a:r>
            <a:r>
              <a:rPr b="1" i="1" lang="lt-LT" sz="3200" spc="-1" strike="noStrike">
                <a:solidFill>
                  <a:srgbClr val="005426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1" i="1" lang="lt-L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gal Lietuvos kaimo plėtros 2014–2020 m. programą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324000" y="4941720"/>
            <a:ext cx="8713800" cy="1143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Logo Leader V1"/>
          <p:cNvPicPr/>
          <p:nvPr/>
        </p:nvPicPr>
        <p:blipFill>
          <a:blip r:embed="rId1"/>
          <a:stretch/>
        </p:blipFill>
        <p:spPr>
          <a:xfrm>
            <a:off x="3886200" y="1268280"/>
            <a:ext cx="1076400" cy="1079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ilonas\Desktop\naujai\pirkimai\logotopas\logo\JPG\Lietuvos LEADER logo RGB 450x600px.jpg"/>
          <p:cNvPicPr/>
          <p:nvPr/>
        </p:nvPicPr>
        <p:blipFill>
          <a:blip r:embed="rId2"/>
          <a:stretch/>
        </p:blipFill>
        <p:spPr>
          <a:xfrm>
            <a:off x="8572680" y="0"/>
            <a:ext cx="571320" cy="765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KPF_logo_small.jpg"/>
          <p:cNvPicPr/>
          <p:nvPr/>
        </p:nvPicPr>
        <p:blipFill>
          <a:blip r:embed="rId3"/>
          <a:stretch/>
        </p:blipFill>
        <p:spPr>
          <a:xfrm>
            <a:off x="0" y="6351480"/>
            <a:ext cx="1357200" cy="506520"/>
          </a:xfrm>
          <a:prstGeom prst="rect">
            <a:avLst/>
          </a:prstGeom>
          <a:ln w="0">
            <a:noFill/>
          </a:ln>
        </p:spPr>
      </p:pic>
      <p:sp>
        <p:nvSpPr>
          <p:cNvPr id="53" name="Stačiakampis 1"/>
          <p:cNvSpPr/>
          <p:nvPr/>
        </p:nvSpPr>
        <p:spPr>
          <a:xfrm>
            <a:off x="4149720" y="547704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-04-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5"/>
          <p:cNvSpPr/>
          <p:nvPr/>
        </p:nvSpPr>
        <p:spPr>
          <a:xfrm>
            <a:off x="324000" y="1627200"/>
            <a:ext cx="85690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gyvendinant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 regl. 1305/2013 44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raipsnio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. reikalavimą paraiškos renkamos taikant </a:t>
            </a:r>
            <a:r>
              <a:rPr b="0" lang="lt-LT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olatinę paraiškų rinkimo procedūrą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 m.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iškos renkamos </a:t>
            </a:r>
            <a:r>
              <a:rPr b="1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kartus </a:t>
            </a:r>
            <a:r>
              <a:rPr b="0" lang="lt-LT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17-12-01 įsak. Nr. 3D-770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kaidrės numerio vietos rezervavimo ženklas 3"/>
          <p:cNvSpPr/>
          <p:nvPr/>
        </p:nvSpPr>
        <p:spPr>
          <a:xfrm>
            <a:off x="694044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D33F-FD8C-4141-A5D4-502660F16D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1547640" y="549360"/>
            <a:ext cx="7025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Bendradarbiavimo projektų paraiškų 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755640" y="3429000"/>
          <a:ext cx="6264360" cy="2570040"/>
        </p:xfrm>
        <a:graphic>
          <a:graphicData uri="http://schemas.openxmlformats.org/drawingml/2006/table">
            <a:tbl>
              <a:tblPr/>
              <a:tblGrid>
                <a:gridCol w="2554200"/>
                <a:gridCol w="1838520"/>
                <a:gridCol w="1871640"/>
              </a:tblGrid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ngiamoji parama (tarptautinių projektų inicijavima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2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itor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rowSpan="4"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rptautinio bendradarbiavimo projekta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3-1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5-1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6-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7-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9-1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6520" rIns="56520" tIns="9360" bIns="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10-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6520" marR="56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9BC6E-13EA-43F1-A27C-21BDBDA35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ntraštė 1"/>
          <p:cNvSpPr/>
          <p:nvPr/>
        </p:nvSpPr>
        <p:spPr>
          <a:xfrm>
            <a:off x="919080" y="54936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1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"/>
          <p:cNvSpPr/>
          <p:nvPr/>
        </p:nvSpPr>
        <p:spPr>
          <a:xfrm>
            <a:off x="539640" y="1020600"/>
            <a:ext cx="7704360" cy="595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ustatytas neremiamų veiklų sąraš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remiami projektai, susiję s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koholinių gėrimų ir tabako gaminių propagavimu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nklais ir šaudmeni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zartinių lošimų ir lažybų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siniu tarpininkavimu, pagalbine finansinio tarpininkavimo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audimo ir pensijų kaupim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kilnojamojo turto operacijomi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isinės ir konsultavimo veiklos organizavimu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žiokle, gaudymu spąstais, medžioklės patirties sklaida ir su tuo susijusia veikl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 paramos lėšas įgyto ir(arba) sutvarkyto kito turto nuom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ai, panašūs savo pobūdžiu į anksčiau pareiškėjo įgyvendintus bendardarbiavimo  projektu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sisakoma tam tikrų dokumentų,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uriuos galima patikrinti vie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š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osiuose registruose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halterinės apskaitos tvarkymo fak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ybų leidim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žbaigtos statybos, kai duomenis reikia teikti IS ,,infostatyba“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s tikrinama, ar VVG neturi turi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siskolinimų Agentūrai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MI, SODRAI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3EC93-8C2C-4CEB-828A-47EA286F0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2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"/>
          <p:cNvSpPr/>
          <p:nvPr/>
        </p:nvSpPr>
        <p:spPr>
          <a:xfrm>
            <a:off x="539640" y="1341360"/>
            <a:ext cx="770436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am tikros tinkamų išlaidų formuluotės, jų ribos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ėl suvienodinimo su kitomis KPP priemonėmi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koordinavimo išlaidos. Šių išlaidų dalis negali būti didesnė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p 5 proc. kitų tinkamų finansuoti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jekto išlaidų vertė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drosios išlaidos. Finansuojama bendrųjų išlaidų dalis negali būti didesnė kaip 10 proc.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itų tinkamų finansuoti projekto išlaidų vertės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bet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 daugiau kaip 1 800 Eur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uo atveju, kai projekte numatyti statybos ar infrastruktūros įrengimo darbai, finansuojama bendrųjų išlaidų suma gali būt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i projektas yra susijęs su investicijomi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į žmogiškąjį kapital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naujų prekių įsigijimas galimas tik tais atvejais, kai šios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kės sunaudojamos projekto įgyvendinimo met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C6637-E9CA-4170-8792-D723A12AE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ntraštė 1"/>
          <p:cNvSpPr/>
          <p:nvPr/>
        </p:nvSpPr>
        <p:spPr>
          <a:xfrm>
            <a:off x="826920" y="68904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grindiniai pakeitimai</a:t>
            </a: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(3)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"/>
          <p:cNvSpPr/>
          <p:nvPr/>
        </p:nvSpPr>
        <p:spPr>
          <a:xfrm>
            <a:off x="539640" y="1341360"/>
            <a:ext cx="7704360" cy="31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Keičiasi techninės paramos vertinimo terminai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ertinimas turi būti baig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30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nuo paramos paraiškų priėmimo termino pabaigos, jei paklausimai nesiunčiam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per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45 d. d.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jei siunčiam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I. 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ujovės paraiškose (</a:t>
            </a:r>
            <a:r>
              <a:rPr b="1" i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ildyti aktualią versiją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!)</a:t>
            </a:r>
            <a:r>
              <a:rPr b="1" lang="lt-L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iškose bus prašoma nurodyti informaciją apie pasirinktą paramos lėšų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šmokėjimo būdą 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planuojamų teikti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P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aiči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sižvelgiant į EK prašomus teikti duomenis reikės pateikti informaciją apie </a:t>
            </a:r>
            <a:r>
              <a:rPr b="1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kto tematiką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raktinius žodžius)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lt-L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EC4-48BB-4EE3-90D6-25E3175DD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ntraštė 1"/>
          <p:cNvSpPr/>
          <p:nvPr/>
        </p:nvSpPr>
        <p:spPr>
          <a:xfrm>
            <a:off x="82692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araiškų rinkimo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Diagrama 5"/>
          <p:cNvGraphicFramePr/>
          <p:nvPr/>
        </p:nvGraphicFramePr>
        <p:xfrm>
          <a:off x="776160" y="1362240"/>
          <a:ext cx="7518600" cy="414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Diagrama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6160" y="1362240"/>
                    <a:ext cx="7518600" cy="41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2B88B-6C72-434B-A8A6-B424F1D26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echninės paramos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700280"/>
          <a:ext cx="8218440" cy="3841560"/>
        </p:xfrm>
        <a:graphic>
          <a:graphicData uri="http://schemas.openxmlformats.org/drawingml/2006/table">
            <a:tbl>
              <a:tblPr/>
              <a:tblGrid>
                <a:gridCol w="576360"/>
                <a:gridCol w="1538280"/>
                <a:gridCol w="1846080"/>
                <a:gridCol w="1517760"/>
                <a:gridCol w="1369800"/>
                <a:gridCol w="1370160"/>
              </a:tblGrid>
              <a:tr h="914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Šiaulių r.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mas – aktyvus kaimo plėtros dalyv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Raseinių 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738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skininkų VV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ndradarbiavimo paieškos – Lietuva-Vokieti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Alytaus r. VVG; Šventosios ŽRVVG; Vokietijos VV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A022-BDEC-43B6-902C-BAC220892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ntraštė 1"/>
          <p:cNvSpPr/>
          <p:nvPr/>
        </p:nvSpPr>
        <p:spPr>
          <a:xfrm>
            <a:off x="604800" y="396720"/>
            <a:ext cx="822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rptautinio bendradarbiavimo patvirtinti projekt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-2018 I ketv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291960" y="901800"/>
            <a:ext cx="8856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7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91960" y="1125360"/>
          <a:ext cx="8744040" cy="5570640"/>
        </p:xfrm>
        <a:graphic>
          <a:graphicData uri="http://schemas.openxmlformats.org/drawingml/2006/table">
            <a:tbl>
              <a:tblPr/>
              <a:tblGrid>
                <a:gridCol w="568440"/>
                <a:gridCol w="1279440"/>
                <a:gridCol w="1422360"/>
                <a:gridCol w="1919520"/>
                <a:gridCol w="1279440"/>
                <a:gridCol w="995400"/>
                <a:gridCol w="1279440"/>
              </a:tblGrid>
              <a:tr h="822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il. N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eiškė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to pavadin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tnerių sk., šal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irta paramos suma,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rinkta bal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amos sutar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12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VG „Nemunas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uni vietos lyderi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PL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 226,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2-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lšių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,,Nuotykių LEADER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Šiaurės vakarų Lietuvos VVG, Plungės r. VVG; 2 SE VVG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 010,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gnalinos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yb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ų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el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Varėnos krašto VVG, 4 LV, 2 FI, 1 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rdinuoja F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41,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4-03 potvarkis Nr. 4D-33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51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uno r. V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ie skrend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Garliavos miesto VVG, PL VVG), koordinuoja P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 957,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8-01-09 Nr.  4D-6(1.8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7238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7"/>
          <p:cNvSpPr/>
          <p:nvPr/>
        </p:nvSpPr>
        <p:spPr>
          <a:xfrm>
            <a:off x="7924680" y="6381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KPF_logo_small.jpg"/>
          <p:cNvPicPr/>
          <p:nvPr/>
        </p:nvPicPr>
        <p:blipFill>
          <a:blip r:embed="rId1"/>
          <a:stretch/>
        </p:blipFill>
        <p:spPr>
          <a:xfrm>
            <a:off x="3059280" y="2678040"/>
            <a:ext cx="2808000" cy="1096920"/>
          </a:xfrm>
          <a:prstGeom prst="rect">
            <a:avLst/>
          </a:prstGeom>
          <a:ln w="0">
            <a:noFill/>
          </a:ln>
        </p:spPr>
      </p:pic>
      <p:sp>
        <p:nvSpPr>
          <p:cNvPr id="86" name="Skaidrės numerio vietos rezervavimo ženklas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A334-07FE-471B-8B89-F0FD7600D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"/>
          <p:cNvSpPr/>
          <p:nvPr/>
        </p:nvSpPr>
        <p:spPr>
          <a:xfrm>
            <a:off x="3059280" y="1989000"/>
            <a:ext cx="277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Ačiū už dėmesį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7T14:13:43Z</dcterms:created>
  <dc:creator>*</dc:creator>
  <dc:description/>
  <dc:language>en-US</dc:language>
  <cp:lastModifiedBy>Jolanta Vaičiūnienė</cp:lastModifiedBy>
  <cp:lastPrinted>2018-04-11T09:58:16Z</cp:lastPrinted>
  <dcterms:modified xsi:type="dcterms:W3CDTF">2018-04-12T06:19:19Z</dcterms:modified>
  <cp:revision>1526</cp:revision>
  <dc:subject/>
  <dc:title>Slide 1</dc:title>
</cp:coreProperties>
</file>