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656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22240"/>
            <a:ext cx="561996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656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A72C-EF3A-4EBA-81F6-D43DC481C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422240"/>
            <a:ext cx="56199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97656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5EDC-16BC-4D0B-9E72-75B83DF30BCC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1280" y="4422240"/>
            <a:ext cx="56199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kaidrės numerio vietos rezervavimo ženklas 3"/>
          <p:cNvSpPr/>
          <p:nvPr/>
        </p:nvSpPr>
        <p:spPr>
          <a:xfrm>
            <a:off x="397656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495D-E9FB-4055-BF85-E59D77029011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280" y="4422240"/>
            <a:ext cx="56199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kaidrės numerio vietos rezervavimo ženklas 3"/>
          <p:cNvSpPr/>
          <p:nvPr/>
        </p:nvSpPr>
        <p:spPr>
          <a:xfrm>
            <a:off x="397656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153D-A1F4-4DA7-A4A4-DA56AE301271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3A03-222E-4B6A-8BF4-DB64C639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D419-1E20-4F59-8C3D-6AEFDE0A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20A1-3E40-47C7-B233-0E99A914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A71D-C819-478E-91AD-0489E2A4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DA03-6564-46AA-B2C5-80D27F67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A1B4-CD14-4AAC-B5D1-A304D0F0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C1F6-39B1-4A9C-80E7-48393EF1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DEE9-DC80-410A-ADC9-29DAD085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B158-78F9-485F-B3DD-67F3747A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1FE0-08B2-4034-813F-C09443D1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798D-48E6-43FB-9198-10CFCE4F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53C5-55DC-4F00-9416-BBA75688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AB17-93AD-4BBA-BD93-B6D321C5F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76200" y="2908080"/>
            <a:ext cx="8602200" cy="103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lt-LT" sz="3200" spc="-1" strike="noStrike">
                <a:solidFill>
                  <a:srgbClr val="005426"/>
                </a:solidFill>
                <a:latin typeface="Times New Roman"/>
                <a:ea typeface="Times New Roman"/>
              </a:rPr>
              <a:t>VVG bendradarbiavimo projektų įgyvendinim</a:t>
            </a:r>
            <a:r>
              <a:rPr b="1" i="1" lang="en-US" sz="3200" spc="-1" strike="noStrike">
                <a:solidFill>
                  <a:srgbClr val="005426"/>
                </a:solidFill>
                <a:latin typeface="Times New Roman"/>
                <a:ea typeface="Times New Roman"/>
              </a:rPr>
              <a:t>o situacija</a:t>
            </a:r>
            <a:r>
              <a:rPr b="1" i="1" lang="lt-LT" sz="3200" spc="-1" strike="noStrike">
                <a:solidFill>
                  <a:srgbClr val="005426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al Lietuvos kaimo plėtros 2014–2020 m. programą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324000" y="4941720"/>
            <a:ext cx="8713800" cy="114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Logo Leader V1"/>
          <p:cNvPicPr/>
          <p:nvPr/>
        </p:nvPicPr>
        <p:blipFill>
          <a:blip r:embed="rId1"/>
          <a:stretch/>
        </p:blipFill>
        <p:spPr>
          <a:xfrm>
            <a:off x="3886200" y="1268280"/>
            <a:ext cx="1076400" cy="107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ilonas\Desktop\naujai\pirkimai\logotopas\logo\JPG\Lietuvos LEADER logo RGB 450x600px.jpg"/>
          <p:cNvPicPr/>
          <p:nvPr/>
        </p:nvPicPr>
        <p:blipFill>
          <a:blip r:embed="rId2"/>
          <a:stretch/>
        </p:blipFill>
        <p:spPr>
          <a:xfrm>
            <a:off x="8572680" y="0"/>
            <a:ext cx="571320" cy="765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PF_logo_small.jpg"/>
          <p:cNvPicPr/>
          <p:nvPr/>
        </p:nvPicPr>
        <p:blipFill>
          <a:blip r:embed="rId3"/>
          <a:stretch/>
        </p:blipFill>
        <p:spPr>
          <a:xfrm>
            <a:off x="0" y="6351480"/>
            <a:ext cx="1357200" cy="506520"/>
          </a:xfrm>
          <a:prstGeom prst="rect">
            <a:avLst/>
          </a:prstGeom>
          <a:ln w="0">
            <a:noFill/>
          </a:ln>
        </p:spPr>
      </p:pic>
      <p:sp>
        <p:nvSpPr>
          <p:cNvPr id="53" name="Stačiakampis 1"/>
          <p:cNvSpPr/>
          <p:nvPr/>
        </p:nvSpPr>
        <p:spPr>
          <a:xfrm>
            <a:off x="4149720" y="547704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324000" y="1627200"/>
            <a:ext cx="85690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gyvendinant </a:t>
            </a:r>
            <a:r>
              <a:rPr b="1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regl. 1305/2013 44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raipsnio </a:t>
            </a:r>
            <a:r>
              <a:rPr b="1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. reikalavimą paraiškos renkamos taikant </a:t>
            </a:r>
            <a:r>
              <a:rPr b="0" lang="lt-LT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uolatinę paraiškų rinkimo procedūrą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 m.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iškos renkamos </a:t>
            </a:r>
            <a:r>
              <a:rPr b="1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kartus 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17-12-01 įsak. Nr. 3D-770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kaidrės numerio vietos rezervavimo ženklas 3"/>
          <p:cNvSpPr/>
          <p:nvPr/>
        </p:nvSpPr>
        <p:spPr>
          <a:xfrm>
            <a:off x="694044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37F2-AD7C-41C7-AD1A-658429B1F8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1547640" y="549360"/>
            <a:ext cx="70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endradarbiavimo projektų paraiškų rink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55640" y="3429000"/>
          <a:ext cx="6264360" cy="2570040"/>
        </p:xfrm>
        <a:graphic>
          <a:graphicData uri="http://schemas.openxmlformats.org/drawingml/2006/table">
            <a:tbl>
              <a:tblPr/>
              <a:tblGrid>
                <a:gridCol w="2554200"/>
                <a:gridCol w="1838520"/>
                <a:gridCol w="1871640"/>
              </a:tblGrid>
              <a:tr h="253800">
                <a:tc rowSpan="4"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ngiamoji parama (tarptautinių projektų inicijavima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2-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3-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5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6-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7-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9-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10-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rowSpan="2"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itorinio bendradarbiavimo projekta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5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9-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10-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rowSpan="4"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ptautinio bendradarbiavimo projekta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2-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3-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5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6-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7-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9-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10-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813E-4184-4941-A0A8-8EE916DBB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ntraštė 1"/>
          <p:cNvSpPr/>
          <p:nvPr/>
        </p:nvSpPr>
        <p:spPr>
          <a:xfrm>
            <a:off x="91908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grindiniai pakeitimai</a:t>
            </a:r>
            <a:r>
              <a:rPr b="1" lang="lt-L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1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539640" y="1020600"/>
            <a:ext cx="7704360" cy="59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ustatytas neremiamų veiklų sąraš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emiami projektai, susiję s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oholinių gėrimų ir tabako gaminių propagavimu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nklais ir šaudmenim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artinių lošimų ir lažybų organizavim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siniu tarpininkavimu, pagalbine finansinio tarpininkavimo veikl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udimo ir pensijų kaupimo operacijom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kilnojamojo turto operacijom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isinės ir konsultavimo veiklos organizavim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žiokle, gaudymu spąstais, medžioklės patirties sklaida ir su tuo susijusia veikl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 paramos lėšas įgyto ir(arba) sutvarkyto kito turto nuo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i, panašūs savo pobūdžiu į anksčiau pareiškėjo įgyvendintus bendardarbiavimo  projekt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I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tsisakoma tam tikrų dokumentų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uriuos galima patikrinti vie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š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osiuose registruose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halterinės apskaitos tvarkymo fak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ybų leidim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baigtos statybos, kai duomenis reikia teikti IS ,,infostatyba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 tikrinama, ar VVG neturi turi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siskolinimų Agentūrai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MI, SODRA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3A35-3B6E-4D26-9B63-1640DE12F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ntraštė 1"/>
          <p:cNvSpPr/>
          <p:nvPr/>
        </p:nvSpPr>
        <p:spPr>
          <a:xfrm>
            <a:off x="826920" y="68904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grindiniai pakeitimai</a:t>
            </a:r>
            <a:r>
              <a:rPr b="1" lang="lt-L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539640" y="1341360"/>
            <a:ext cx="7704360" cy="32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V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eičiasi am tikros tinkamų išlaidų formuluotės, jų ribos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ėl suvienodinimo su kitomis KPP priemonėmi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o koordinavimo išlaidos. Šių išlaidų dalis negali būti didesnė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5 proc. kitų tinkamų finansuoti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jekto išlaidų vertė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osios išlaidos. Finansuojama bendrųjų išlaidų dalis negali būti didesnė kaip 10 proc.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ų tinkamų finansuoti projekto išlaidų vertės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et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daugiau kaip 1 800 Eur.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o atveju, kai projekte numatyti statybos ar infrastruktūros įrengimo darbai, finansuojama bendrųjų išlaidų suma gali bū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 projektas yra susijęs su investicijomis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 žmogiškąjį kapitalą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ujų prekių įsigijimas galimas tik tais atvejais, kai šios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kės sunaudojamos projekto įgyvendinimo me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65FE-306F-4F71-AA4D-A252E5A34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ntraštė 1"/>
          <p:cNvSpPr/>
          <p:nvPr/>
        </p:nvSpPr>
        <p:spPr>
          <a:xfrm>
            <a:off x="826920" y="68904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grindiniai pakeitimai</a:t>
            </a:r>
            <a:r>
              <a:rPr b="1" lang="lt-L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3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539640" y="1341360"/>
            <a:ext cx="7704360" cy="31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eičiasi techninės paramos vertinimo termina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Vertinimas turi būti baigt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per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0 d. d.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nuo paramos paraiškų priėmimo termino pabaigos, jei paklausimai nesiunčiam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per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45 d. d.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jei siunčiam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ujovės paraiškose (</a:t>
            </a:r>
            <a:r>
              <a:rPr b="1" i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ildyti aktualią versiją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!)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iškose bus prašoma nurodyti informaciją apie pasirinktą paramos lėšų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mokėjimo būdą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 planuojamų teikti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či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ižvelgiant į EK prašomus teikti duomenis reikės pateikti informaciją apie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o tematiką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aktinius žodžius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9F8E-ED10-4F78-8815-49E8494ED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ntraštė 1"/>
          <p:cNvSpPr/>
          <p:nvPr/>
        </p:nvSpPr>
        <p:spPr>
          <a:xfrm>
            <a:off x="82692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aiškų rinkimo rezulta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-2018 I ket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Diagrama 5"/>
          <p:cNvGraphicFramePr/>
          <p:nvPr/>
        </p:nvGraphicFramePr>
        <p:xfrm>
          <a:off x="776160" y="1362240"/>
          <a:ext cx="7518600" cy="414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Diagrama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1362240"/>
                    <a:ext cx="751860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B98C-D481-4281-B6DB-9A2222922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ntraštė 1"/>
          <p:cNvSpPr/>
          <p:nvPr/>
        </p:nvSpPr>
        <p:spPr>
          <a:xfrm>
            <a:off x="604800" y="3967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chninės paramos patvirtinti projekta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-2018 I ket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360" y="1700280"/>
          <a:ext cx="8218440" cy="3841560"/>
        </p:xfrm>
        <a:graphic>
          <a:graphicData uri="http://schemas.openxmlformats.org/drawingml/2006/table">
            <a:tbl>
              <a:tblPr/>
              <a:tblGrid>
                <a:gridCol w="576360"/>
                <a:gridCol w="1538280"/>
                <a:gridCol w="1846080"/>
                <a:gridCol w="1517760"/>
                <a:gridCol w="1369800"/>
                <a:gridCol w="13701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l. N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iškėj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kto pavadini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nerių sk., šal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rta paramos suma,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rinkta bal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iaulių r. VV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unimas – aktyvus kaimo plėtros dalyv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Raseinių VVG; Vokietijos VV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38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skininkų VV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ndradarbiavimo paieškos – Lietuva-Vokiet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Alytaus r. VVG; Šventosios ŽRVVG; Vokietijos VV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206F-C360-420E-9EDA-FFB842E5A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ntraštė 1"/>
          <p:cNvSpPr/>
          <p:nvPr/>
        </p:nvSpPr>
        <p:spPr>
          <a:xfrm>
            <a:off x="604800" y="3967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arptautinio bendradarbiavimo patvirtinti projekta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-2018 I ket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91960" y="1125360"/>
          <a:ext cx="8744040" cy="5570640"/>
        </p:xfrm>
        <a:graphic>
          <a:graphicData uri="http://schemas.openxmlformats.org/drawingml/2006/table">
            <a:tbl>
              <a:tblPr/>
              <a:tblGrid>
                <a:gridCol w="568440"/>
                <a:gridCol w="1279440"/>
                <a:gridCol w="1422360"/>
                <a:gridCol w="1919520"/>
                <a:gridCol w="1279440"/>
                <a:gridCol w="995400"/>
                <a:gridCol w="1279440"/>
              </a:tblGrid>
              <a:tr h="822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l. N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iškė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kto pavadini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nerių sk., šal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rta paramos suma,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rinkta bal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os sutar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1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VG „Nemunas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uni vietos lyderi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PL VV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rdinuoja P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226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2-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lšių r. V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ademija ,,Nuotykių LEADER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Šiaurės vakarų Lietuvos VVG, Plungės r. VVG; 2 SE VV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rdinuoja 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010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03 potvarkis Nr. 4D-33(1.8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09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gnalinos r. V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yb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el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Varėnos krašto VVG, 4 LV, 2 FI, 1 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rdinuoja F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041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03 potvarkis Nr. 4D-33(1.8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51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uno r. V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ie skr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Garliavos miesto VVG, PL VVG), koordinuoja P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957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1-09 Nr.  4D-6(1.8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7238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7"/>
          <p:cNvSpPr/>
          <p:nvPr/>
        </p:nvSpPr>
        <p:spPr>
          <a:xfrm>
            <a:off x="7924680" y="6381720"/>
            <a:ext cx="121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KPF_logo_small.jpg"/>
          <p:cNvPicPr/>
          <p:nvPr/>
        </p:nvPicPr>
        <p:blipFill>
          <a:blip r:embed="rId1"/>
          <a:stretch/>
        </p:blipFill>
        <p:spPr>
          <a:xfrm>
            <a:off x="3059280" y="2678040"/>
            <a:ext cx="2808000" cy="1096920"/>
          </a:xfrm>
          <a:prstGeom prst="rect">
            <a:avLst/>
          </a:prstGeom>
          <a:ln w="0">
            <a:noFill/>
          </a:ln>
        </p:spPr>
      </p:pic>
      <p:sp>
        <p:nvSpPr>
          <p:cNvPr id="86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E1DF-CECF-4730-AA88-93ED8397FD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3059280" y="1989000"/>
            <a:ext cx="27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čiū už dėmes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14:13:43Z</dcterms:created>
  <dc:creator>*</dc:creator>
  <dc:description/>
  <dc:language>en-US</dc:language>
  <cp:lastModifiedBy>Jolanta Vaičiūnienė</cp:lastModifiedBy>
  <cp:lastPrinted>2018-04-11T09:58:16Z</cp:lastPrinted>
  <dcterms:modified xsi:type="dcterms:W3CDTF">2018-04-12T06:19:19Z</dcterms:modified>
  <cp:revision>1526</cp:revision>
  <dc:subject/>
  <dc:title>Slide 1</dc:title>
</cp:coreProperties>
</file>