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6560" y="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22240"/>
            <a:ext cx="561996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4232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6560" y="884232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B797-DCFB-4C0C-8FA1-6A2418D91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01280" y="4422240"/>
            <a:ext cx="56199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976560" y="8842320"/>
            <a:ext cx="3044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1358-B845-4022-AC5C-24928DC6996E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01280" y="4422240"/>
            <a:ext cx="56199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kaidrės numerio vietos rezervavimo ženklas 3"/>
          <p:cNvSpPr/>
          <p:nvPr/>
        </p:nvSpPr>
        <p:spPr>
          <a:xfrm>
            <a:off x="3976560" y="8842320"/>
            <a:ext cx="3044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C992-EDFF-44C5-82B6-7AB1A6395702}" type="slidenum">
              <a:rPr b="0" lang="lt-L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1280" y="4422240"/>
            <a:ext cx="56199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kaidrės numerio vietos rezervavimo ženklas 3"/>
          <p:cNvSpPr/>
          <p:nvPr/>
        </p:nvSpPr>
        <p:spPr>
          <a:xfrm>
            <a:off x="3976560" y="8842320"/>
            <a:ext cx="3044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35D8-9256-44C9-A97A-E652EF021649}" type="slidenum">
              <a:rPr b="0" lang="lt-L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8153-50DF-45F1-9924-1DE675B3A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A8EA-D791-4CA4-96E4-3A0F8473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8904-9891-431E-AA07-130B7B26F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D75D-DEE9-400B-ADE8-00317D782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15DD-72D3-4898-A33E-844C1D16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EEC9-4EC0-4CD0-86B6-BDAAB1C9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9BA4-4917-4191-832A-C54D5B8A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F55A-28F3-4F11-B856-D04B00E2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4F84-9942-4907-9EF3-5FAACAE4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EB1E-D5E4-4C41-94B8-2FAE78AA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15BC-B61C-4848-AB5C-FE8DDD03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60D5-109F-4987-9B3D-C3410A96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4F98-6DE0-43CD-96C5-53FBE0F75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76200" y="2908080"/>
            <a:ext cx="8602200" cy="103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lt-LT" sz="3200" spc="-1" strike="noStrike">
                <a:solidFill>
                  <a:srgbClr val="005426"/>
                </a:solidFill>
                <a:latin typeface="Times New Roman"/>
                <a:ea typeface="Times New Roman"/>
              </a:rPr>
              <a:t>VVG bendradarbiavimo projektų įgyvendinim</a:t>
            </a:r>
            <a:r>
              <a:rPr b="1" i="1" lang="en-US" sz="3200" spc="-1" strike="noStrike">
                <a:solidFill>
                  <a:srgbClr val="005426"/>
                </a:solidFill>
                <a:latin typeface="Times New Roman"/>
                <a:ea typeface="Times New Roman"/>
              </a:rPr>
              <a:t>o situacija</a:t>
            </a:r>
            <a:r>
              <a:rPr b="1" i="1" lang="lt-LT" sz="3200" spc="-1" strike="noStrike">
                <a:solidFill>
                  <a:srgbClr val="005426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al Lietuvos kaimo plėtros 2014–2020 m. programą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324000" y="4941720"/>
            <a:ext cx="8713800" cy="114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Logo Leader V1"/>
          <p:cNvPicPr/>
          <p:nvPr/>
        </p:nvPicPr>
        <p:blipFill>
          <a:blip r:embed="rId1"/>
          <a:stretch/>
        </p:blipFill>
        <p:spPr>
          <a:xfrm>
            <a:off x="3886200" y="1268280"/>
            <a:ext cx="1076400" cy="107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ilonas\Desktop\naujai\pirkimai\logotopas\logo\JPG\Lietuvos LEADER logo RGB 450x600px.jpg"/>
          <p:cNvPicPr/>
          <p:nvPr/>
        </p:nvPicPr>
        <p:blipFill>
          <a:blip r:embed="rId2"/>
          <a:stretch/>
        </p:blipFill>
        <p:spPr>
          <a:xfrm>
            <a:off x="8572680" y="0"/>
            <a:ext cx="571320" cy="765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PF_logo_small.jpg"/>
          <p:cNvPicPr/>
          <p:nvPr/>
        </p:nvPicPr>
        <p:blipFill>
          <a:blip r:embed="rId3"/>
          <a:stretch/>
        </p:blipFill>
        <p:spPr>
          <a:xfrm>
            <a:off x="0" y="6351480"/>
            <a:ext cx="1357200" cy="506520"/>
          </a:xfrm>
          <a:prstGeom prst="rect">
            <a:avLst/>
          </a:prstGeom>
          <a:ln w="0">
            <a:noFill/>
          </a:ln>
        </p:spPr>
      </p:pic>
      <p:sp>
        <p:nvSpPr>
          <p:cNvPr id="53" name="Stačiakampis 1"/>
          <p:cNvSpPr/>
          <p:nvPr/>
        </p:nvSpPr>
        <p:spPr>
          <a:xfrm>
            <a:off x="4149720" y="547704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324000" y="1627200"/>
            <a:ext cx="856908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gyvendinant </a:t>
            </a:r>
            <a:r>
              <a:rPr b="1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regl. 1305/2013 44</a:t>
            </a:r>
            <a:r>
              <a:rPr b="0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raipsnio </a:t>
            </a:r>
            <a:r>
              <a:rPr b="1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. reikalavimą paraiškos renkamos taikant </a:t>
            </a:r>
            <a:r>
              <a:rPr b="0" lang="lt-LT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uolatinę paraiškų rinkimo procedūrą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 m.</a:t>
            </a:r>
            <a:r>
              <a:rPr b="0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iškos renkamos </a:t>
            </a:r>
            <a:r>
              <a:rPr b="1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kartus </a:t>
            </a:r>
            <a:r>
              <a:rPr b="0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17-12-01 įsak. Nr. 3D-770)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kaidrės numerio vietos rezervavimo ženklas 3"/>
          <p:cNvSpPr/>
          <p:nvPr/>
        </p:nvSpPr>
        <p:spPr>
          <a:xfrm>
            <a:off x="694044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A13C-9F3A-4787-AE78-17EAF7AE13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1547640" y="549360"/>
            <a:ext cx="70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endradarbiavimo projektų paraiškų rink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55640" y="3429000"/>
          <a:ext cx="6264360" cy="2570040"/>
        </p:xfrm>
        <a:graphic>
          <a:graphicData uri="http://schemas.openxmlformats.org/drawingml/2006/table">
            <a:tbl>
              <a:tblPr/>
              <a:tblGrid>
                <a:gridCol w="2554200"/>
                <a:gridCol w="1838520"/>
                <a:gridCol w="1871640"/>
              </a:tblGrid>
              <a:tr h="253800">
                <a:tc rowSpan="4"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engiamoji parama (tarptautinių projektų inicijavima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2-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3-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4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5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6-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7-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9-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10-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rowSpan="2"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itorinio bendradarbiavimo projekta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4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5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9-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10-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rowSpan="4"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ptautinio bendradarbiavimo projekta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2-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3-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4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5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6-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7-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9-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10-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84CD-8481-474E-A361-3352E9AE1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ntraštė 1"/>
          <p:cNvSpPr/>
          <p:nvPr/>
        </p:nvSpPr>
        <p:spPr>
          <a:xfrm>
            <a:off x="91908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grindiniai pakeitimai</a:t>
            </a:r>
            <a:r>
              <a:rPr b="1" lang="lt-L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1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539640" y="1020600"/>
            <a:ext cx="7704360" cy="59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. 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ustatytas neremiamų veiklų sąraš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emiami projektai, susiję s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oholinių gėrimų ir tabako gaminių propagavimu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nklais ir šaudmenim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artinių lošimų ir lažybų organizavim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siniu tarpininkavimu, pagalbine finansinio tarpininkavimo veikl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udimo ir pensijų kaupimo operacijom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kilnojamojo turto operacijom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isinės ir konsultavimo veiklos organizavim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žiokle, gaudymu spąstais, medžioklės patirties sklaida ir su tuo susijusia veikl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 paramos lėšas įgyto ir(arba) sutvarkyto kito turto nuo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i, panašūs savo pobūdžiu į anksčiau pareiškėjo įgyvendintus bendardarbiavimo  projekt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I. 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tsisakoma tam tikrų dokumentų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uriuos galima patikrinti vie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š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osiuose registruose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halterinės apskaitos tvarkymo fakt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ybų leidim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baigtos statybos, kai duomenis reikia teikti IS ,,infostatyba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 tikrinama, ar VVG neturi turi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siskolinimų Agentūrai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MI, SODRAI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6DCB-1530-44FA-9527-303355EAC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ntraštė 1"/>
          <p:cNvSpPr/>
          <p:nvPr/>
        </p:nvSpPr>
        <p:spPr>
          <a:xfrm>
            <a:off x="826920" y="68904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grindiniai pakeitimai</a:t>
            </a:r>
            <a:r>
              <a:rPr b="1" lang="lt-L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539640" y="1341360"/>
            <a:ext cx="7704360" cy="32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V. 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eičiasi am tikros tinkamų išlaidų formuluotės, jų ribos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ėl suvienodinimo su kitomis KPP priemonėmi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o koordinavimo išlaidos. Šių išlaidų dalis negali būti didesnė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5 proc. kitų tinkamų finansuoti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jekto išlaidų vertė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osios išlaidos. Finansuojama bendrųjų išlaidų dalis negali būti didesnė kaip 10 proc.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ų tinkamų finansuoti projekto išlaidų vertės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et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 daugiau kaip 1 800 Eur.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o atveju, kai projekte numatyti statybos ar infrastruktūros įrengimo darbai, finansuojama bendrųjų išlaidų suma gali bū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 projektas yra susijęs su investicijomis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 žmogiškąjį kapitalą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ujų prekių įsigijimas galimas tik tais atvejais, kai šios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kės sunaudojamos projekto įgyvendinimo me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AD26-BFE0-4B66-BDD1-6409746C1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ntraštė 1"/>
          <p:cNvSpPr/>
          <p:nvPr/>
        </p:nvSpPr>
        <p:spPr>
          <a:xfrm>
            <a:off x="826920" y="68904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grindiniai pakeitimai</a:t>
            </a:r>
            <a:r>
              <a:rPr b="1" lang="lt-L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3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539640" y="1341360"/>
            <a:ext cx="7704360" cy="31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. 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eičiasi techninės paramos vertinimo termina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Vertinimas turi būti baigt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per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30 d. d.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nuo paramos paraiškų priėmimo termino pabaigos, jei paklausimai nesiunčiam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per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45 d. d.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jei siunčiam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I. 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aujovės paraiškose (</a:t>
            </a:r>
            <a:r>
              <a:rPr b="1" i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ildyti aktualią versiją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!)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iškose bus prašoma nurodyti informaciją apie pasirinktą paramos lėšų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mokėjimo būdą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 planuojamų teikti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čių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ižvelgiant į EK prašomus teikti duomenis reikės pateikti informaciją apie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o tematiką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aktinius žodžius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05E9-52B1-4583-A3BB-BEDEB69BA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ntraštė 1"/>
          <p:cNvSpPr/>
          <p:nvPr/>
        </p:nvSpPr>
        <p:spPr>
          <a:xfrm>
            <a:off x="82692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aiškų rinkimo rezulta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-2018 I ket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Diagrama 5"/>
          <p:cNvGraphicFramePr/>
          <p:nvPr/>
        </p:nvGraphicFramePr>
        <p:xfrm>
          <a:off x="776160" y="1362240"/>
          <a:ext cx="7518600" cy="414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Diagrama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60" y="1362240"/>
                    <a:ext cx="751860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5AE7-BC12-4A2F-9117-3D4046127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ntraštė 1"/>
          <p:cNvSpPr/>
          <p:nvPr/>
        </p:nvSpPr>
        <p:spPr>
          <a:xfrm>
            <a:off x="604800" y="39672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chninės paramos patvirtinti projekta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-2018 I ket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68360" y="1700280"/>
          <a:ext cx="8218440" cy="3841560"/>
        </p:xfrm>
        <a:graphic>
          <a:graphicData uri="http://schemas.openxmlformats.org/drawingml/2006/table">
            <a:tbl>
              <a:tblPr/>
              <a:tblGrid>
                <a:gridCol w="576360"/>
                <a:gridCol w="1538280"/>
                <a:gridCol w="1846080"/>
                <a:gridCol w="1517760"/>
                <a:gridCol w="1369800"/>
                <a:gridCol w="137016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l. N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eiškėj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jekto pavadini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nerių sk., šal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rta paramos suma, 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rinkta bal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iaulių r. VV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unimas – aktyvus kaimo plėtros dalyv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Raseinių VVG; Vokietijos VV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738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skininkų VV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ndradarbiavimo paieškos – Lietuva-Vokiet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Alytaus r. VVG; Šventosios ŽRVVG; Vokietijos VV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62A0-CF4F-46D4-AE93-5A50834F7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ntraštė 1"/>
          <p:cNvSpPr/>
          <p:nvPr/>
        </p:nvSpPr>
        <p:spPr>
          <a:xfrm>
            <a:off x="604800" y="39672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arptautinio bendradarbiavimo patvirtinti projekta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-2018 I ket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91960" y="1125360"/>
          <a:ext cx="8744040" cy="5570640"/>
        </p:xfrm>
        <a:graphic>
          <a:graphicData uri="http://schemas.openxmlformats.org/drawingml/2006/table">
            <a:tbl>
              <a:tblPr/>
              <a:tblGrid>
                <a:gridCol w="568440"/>
                <a:gridCol w="1279440"/>
                <a:gridCol w="1422360"/>
                <a:gridCol w="1919520"/>
                <a:gridCol w="1279440"/>
                <a:gridCol w="995400"/>
                <a:gridCol w="1279440"/>
              </a:tblGrid>
              <a:tr h="822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l. N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eiškė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jekto pavadini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nerių sk., šal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rta paramos suma,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rinkta bal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os sutar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1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VG „Nemunas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uni vietos lyderia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PL VV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ordinuoja P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226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2-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lšių r. VV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kademija ,,Nuotykių LEADER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Šiaurės vakarų Lietuvos VVG, Plungės r. VVG; 2 SE VV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ordinuoja 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010,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4-03 potvarkis Nr. 4D-33(1.8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309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gnalinos r. VV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yb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kel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Varėnos krašto VVG, 4 LV, 2 FI, 1 I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ordinuoja F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041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4-03 potvarkis Nr. 4D-33(1.8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514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uno r. VV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ie skr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Garliavos miesto VVG, PL VVG), koordinuoja P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957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1-09 Nr.  4D-6(1.8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7238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7"/>
          <p:cNvSpPr/>
          <p:nvPr/>
        </p:nvSpPr>
        <p:spPr>
          <a:xfrm>
            <a:off x="7924680" y="6381720"/>
            <a:ext cx="121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KPF_logo_small.jpg"/>
          <p:cNvPicPr/>
          <p:nvPr/>
        </p:nvPicPr>
        <p:blipFill>
          <a:blip r:embed="rId1"/>
          <a:stretch/>
        </p:blipFill>
        <p:spPr>
          <a:xfrm>
            <a:off x="3059280" y="2678040"/>
            <a:ext cx="2808000" cy="1096920"/>
          </a:xfrm>
          <a:prstGeom prst="rect">
            <a:avLst/>
          </a:prstGeom>
          <a:ln w="0">
            <a:noFill/>
          </a:ln>
        </p:spPr>
      </p:pic>
      <p:sp>
        <p:nvSpPr>
          <p:cNvPr id="86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0CE6-06C6-4BAB-B13C-9B58BD345C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3059280" y="1989000"/>
            <a:ext cx="277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čiū už dėmesį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7T14:13:43Z</dcterms:created>
  <dc:creator>*</dc:creator>
  <dc:description/>
  <dc:language>en-US</dc:language>
  <cp:lastModifiedBy>Jolanta Vaičiūnienė</cp:lastModifiedBy>
  <cp:lastPrinted>2018-04-11T09:58:16Z</cp:lastPrinted>
  <dcterms:modified xsi:type="dcterms:W3CDTF">2018-04-12T06:19:19Z</dcterms:modified>
  <cp:revision>1526</cp:revision>
  <dc:subject/>
  <dc:title>Slide 1</dc:title>
</cp:coreProperties>
</file>