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56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47E1-63DE-4C52-8D0A-3D8D92D2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A7E1-4B58-46A8-88F6-CED35B28EF5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8790-FAC3-4E66-B406-D9F3DB615F01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7C31-465D-4A87-A8D7-D45C247966A1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0D9-59C7-41DC-9A4B-17F0D160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D71-1693-4152-AB7A-417005AD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FF5-9792-4902-B31A-AC597088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1D4-1313-457E-972B-DAADC251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33D-C948-47C7-9D5E-A6EB41BB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CDD-9EF4-433F-89D8-2306D705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FAF-C17E-46ED-874B-0C98F63D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C5B-1108-4DF2-BDD0-DEDFFE23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0A2-00D2-4AFD-9833-B5BE717E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2D5-45E5-4C48-BC8E-DD5D573D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CA6-C086-4946-A9CD-421E964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371-E671-4920-9766-2B08602C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BB93-FA22-400A-B6B4-B7DC6C0E6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6200" y="2908080"/>
            <a:ext cx="8602200" cy="103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VVG bendradarbiavimo projektų įgyvendinim</a:t>
            </a:r>
            <a:r>
              <a:rPr b="1" i="1" lang="en-US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o situacija</a:t>
            </a: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 Lietuvos kaimo plėtros 2014–2020 m. programą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24000" y="4941720"/>
            <a:ext cx="87138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Logo Leader V1"/>
          <p:cNvPicPr/>
          <p:nvPr/>
        </p:nvPicPr>
        <p:blipFill>
          <a:blip r:embed="rId1"/>
          <a:stretch/>
        </p:blipFill>
        <p:spPr>
          <a:xfrm>
            <a:off x="3886200" y="1268280"/>
            <a:ext cx="107640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ilonas\Desktop\naujai\pirkimai\logotopas\logo\JPG\Lietuvos LEADER logo RGB 450x600px.jpg"/>
          <p:cNvPicPr/>
          <p:nvPr/>
        </p:nvPicPr>
        <p:blipFill>
          <a:blip r:embed="rId2"/>
          <a:stretch/>
        </p:blipFill>
        <p:spPr>
          <a:xfrm>
            <a:off x="8572680" y="0"/>
            <a:ext cx="57132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PF_logo_small.jpg"/>
          <p:cNvPicPr/>
          <p:nvPr/>
        </p:nvPicPr>
        <p:blipFill>
          <a:blip r:embed="rId3"/>
          <a:stretch/>
        </p:blipFill>
        <p:spPr>
          <a:xfrm>
            <a:off x="0" y="6351480"/>
            <a:ext cx="1357200" cy="506520"/>
          </a:xfrm>
          <a:prstGeom prst="rect">
            <a:avLst/>
          </a:prstGeom>
          <a:ln w="0">
            <a:noFill/>
          </a:ln>
        </p:spPr>
      </p:pic>
      <p:sp>
        <p:nvSpPr>
          <p:cNvPr id="53" name="Stačiakampis 1"/>
          <p:cNvSpPr/>
          <p:nvPr/>
        </p:nvSpPr>
        <p:spPr>
          <a:xfrm>
            <a:off x="4149720" y="54770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324000" y="1627200"/>
            <a:ext cx="85690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yvendinant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regl. 1305/2013 44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aipsnio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. reikalavimą paraiškos renkamos taikant </a:t>
            </a:r>
            <a:r>
              <a:rPr b="0" lang="lt-LT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olatinę paraiškų rinkimo procedūrą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m.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iškos renkamos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kartus 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7-12-01 įsak. Nr. 3D-770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kaidrės numerio vietos rezervavimo ženklas 3"/>
          <p:cNvSpPr/>
          <p:nvPr/>
        </p:nvSpPr>
        <p:spPr>
          <a:xfrm>
            <a:off x="694044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4595-12AD-4C30-8BF8-EA370C495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547640" y="549360"/>
            <a:ext cx="70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ndradarbiavimo projektų paraiškų rink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55640" y="3429000"/>
          <a:ext cx="6264360" cy="2570040"/>
        </p:xfrm>
        <a:graphic>
          <a:graphicData uri="http://schemas.openxmlformats.org/drawingml/2006/table">
            <a:tbl>
              <a:tblPr/>
              <a:tblGrid>
                <a:gridCol w="2554200"/>
                <a:gridCol w="1838520"/>
                <a:gridCol w="1871640"/>
              </a:tblGrid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giamoji parama (tarptautinių projektų inicijavima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2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itor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ptaut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D597-C2E9-4687-A1D6-F4B9AEB65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ntraštė 1"/>
          <p:cNvSpPr/>
          <p:nvPr/>
        </p:nvSpPr>
        <p:spPr>
          <a:xfrm>
            <a:off x="91908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539640" y="1020600"/>
            <a:ext cx="770436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statytas neremiamų veiklų sąraš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miami projektai, susiję s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nių gėrimų ir tabako gaminių propagavim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nklais ir šaudmeni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artinių lošimų ir lažybų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siniu tarpininkavimu, pagalbine finansinio tarpininkavimo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dimo ir pensijų kaupim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ilnojamojo turt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sinės ir konsultavimo veiklos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kle, gaudymu spąstais, medžioklės patirties sklaida ir su tuo susijusia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 paramos lėšas įgyto ir(arba) sutvarkyto kito turto nuo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i, panašūs savo pobūdžiu į anksčiau pareiškėjo įgyvendintus bendardarbiavimo  projek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sisakoma tam tikrų dokumentų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riuos galima patikrinti vie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osiuose registruose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halterinės apskaitos tvarkymo fak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ybų leidim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baigtos statybos, kai duomenis reikia teikti IS ,,infostatyba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tikrinama, ar VVG neturi turi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skolinimų Agentūrai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MI, SODRA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BFF2-25CD-47B9-8D1E-40682D48B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539640" y="1341360"/>
            <a:ext cx="77043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am tikros tinkamų išlaidų formuluotės, jų ribos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ėl suvienodinimo su kitomis KPP priemonėmi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koordinavimo išlaidos. Šių išlaidų dalis negali būti didesnė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5 proc. kitų tinkamų finansuot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kto išlaidų vertė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osios išlaidos. Finansuojama bendrųjų išlaidų dalis negali būti didesnė kaip 10 proc.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ų tinkamų finansuoti projekto išlaidų vertės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daugiau kaip 1 800 Eur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 atveju, kai projekte numatyti statybos ar infrastruktūros įrengimo darbai, finansuojama bendrųjų išlaidų suma gali bū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projektas yra susijęs su investicijomi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žmogiškąjį kapital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jų prekių įsigijimas galimas tik tais atvejais, kai šio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ės sunaudojamos projekto įgyvendinimo 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F29A-1BFB-4CB6-AED3-2BD4F38FC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3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539640" y="1341360"/>
            <a:ext cx="770436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techninės paramos vertinimo termina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ertinimas turi būti baigt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0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uo paramos paraiškų priėmimo termino pabaigos, jei paklausimai nesiunčiam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5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ei siunčiam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ujovės paraiškose (</a:t>
            </a:r>
            <a:r>
              <a:rPr b="1" i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ldyti aktualią versiją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!)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iškose bus prašoma nurodyti informaciją apie pasirinktą paramos lėšų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okėjimo būdą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planuojamų teikt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žvelgiant į EK prašomus teikti duomenis reikės pateikti informaciją apie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tematik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aktinius žodžius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7F6A-67C0-48EE-84F3-0A7EB3611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ntraštė 1"/>
          <p:cNvSpPr/>
          <p:nvPr/>
        </p:nvSpPr>
        <p:spPr>
          <a:xfrm>
            <a:off x="82692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iškų rinkimo rezult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Diagrama 5"/>
          <p:cNvGraphicFramePr/>
          <p:nvPr/>
        </p:nvGraphicFramePr>
        <p:xfrm>
          <a:off x="776160" y="1362240"/>
          <a:ext cx="751860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Diagrama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62240"/>
                    <a:ext cx="75186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5D4C-A610-4AC0-9A6F-457506494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chninės paramos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700280"/>
          <a:ext cx="8218440" cy="3841560"/>
        </p:xfrm>
        <a:graphic>
          <a:graphicData uri="http://schemas.openxmlformats.org/drawingml/2006/table">
            <a:tbl>
              <a:tblPr/>
              <a:tblGrid>
                <a:gridCol w="576360"/>
                <a:gridCol w="1538280"/>
                <a:gridCol w="1846080"/>
                <a:gridCol w="1517760"/>
                <a:gridCol w="1369800"/>
                <a:gridCol w="13701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iaulių r.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mas – aktyvus kaimo plėtros dalyv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aseinių 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skininkų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dradarbiavimo paieškos – Lietuva-Vokiet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lytaus r. VVG; Šventosios ŽR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D155-5BE5-44A6-BB9E-74C219929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rptautinio bendradarbiavimo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91960" y="1125360"/>
          <a:ext cx="8744040" cy="5570640"/>
        </p:xfrm>
        <a:graphic>
          <a:graphicData uri="http://schemas.openxmlformats.org/drawingml/2006/table">
            <a:tbl>
              <a:tblPr/>
              <a:tblGrid>
                <a:gridCol w="568440"/>
                <a:gridCol w="1279440"/>
                <a:gridCol w="1422360"/>
                <a:gridCol w="1919520"/>
                <a:gridCol w="1279440"/>
                <a:gridCol w="995400"/>
                <a:gridCol w="127944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os sutar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VG „Nemunas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 vietos lyderi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L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226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šių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ademija ,,Nuotykių LEADER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Šiaurės vakarų Lietuvos VVG, Plungės r. VVG; 2 SE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010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nalinos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yb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el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Varėnos krašto VVG, 4 LV, 2 FI, 1 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F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041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1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uno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e skr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Garliavos miesto VVG, PL VVG), 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957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1-09 Nr.  4D-6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7238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7"/>
          <p:cNvSpPr/>
          <p:nvPr/>
        </p:nvSpPr>
        <p:spPr>
          <a:xfrm>
            <a:off x="7924680" y="6381720"/>
            <a:ext cx="121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PF_logo_small.jpg"/>
          <p:cNvPicPr/>
          <p:nvPr/>
        </p:nvPicPr>
        <p:blipFill>
          <a:blip r:embed="rId1"/>
          <a:stretch/>
        </p:blipFill>
        <p:spPr>
          <a:xfrm>
            <a:off x="3059280" y="2678040"/>
            <a:ext cx="280800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04EF-FA5E-4564-9868-F2B7A9A4A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059280" y="198900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čiū už dėmes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4:13:43Z</dcterms:created>
  <dc:creator>*</dc:creator>
  <dc:description/>
  <dc:language>en-US</dc:language>
  <cp:lastModifiedBy>Jolanta Vaičiūnienė</cp:lastModifiedBy>
  <cp:lastPrinted>2018-04-11T09:58:16Z</cp:lastPrinted>
  <dcterms:modified xsi:type="dcterms:W3CDTF">2018-04-12T06:19:19Z</dcterms:modified>
  <cp:revision>1526</cp:revision>
  <dc:subject/>
  <dc:title>Slide 1</dc:title>
</cp:coreProperties>
</file>